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478-7DCA-4426-AF0F-838B3E54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695E-91B8-405B-8F47-D789F6CF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95D-6FCF-4855-85CC-3A5334E0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5C4-DF75-4080-9C3C-DF68DE09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00B4-82A7-4B31-9107-CF5D4871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59E3-CB3A-4F1B-B55D-1665F20D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B70-D48D-4126-96C0-CB0EC194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3B7-6A39-4CA0-9CF5-70A0699B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CDD-5673-4E17-861D-724DA9D3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161-1E87-4F9D-9EA8-27ED0482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1BE-6AF5-4F41-8D1B-C224A3F2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596-94C2-41D4-8EDB-4526ABA0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C901-DB13-4211-9771-A655ADDADA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3809880"/>
            <a:ext cx="990720" cy="1371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333399"/>
                </a:solidFill>
                <a:latin typeface="Arial"/>
                <a:ea typeface="隶书"/>
              </a:rPr>
              <a:t>勾股定理的应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523880"/>
            <a:ext cx="1371600" cy="29718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263760" cy="2453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44280"/>
            <a:ext cx="5867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解：在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Rt△ABC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中，∠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ACB=9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∴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AC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8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 ∴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2997360"/>
            <a:ext cx="4248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∵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AB  CD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AC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00 CD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80 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CD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495600" y="1168560"/>
                <a:ext cx="215100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50920" y="4724280"/>
            <a:ext cx="51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Rt△ACD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中，∠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ACD=9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∴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AD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AC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　　　　  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8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28 *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3141720"/>
            <a:ext cx="309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AD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64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米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最低造价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48*1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480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元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五、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如图所示，一个猎人在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点处发现一只野兔正在他的正前方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米处的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点，以每秒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米的速度沿直线向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点奔跑。已知猎枪子弹的飞行速度是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610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米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秒，请问若猎人向野兔正前方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米处瞄准并开枪，那么能否打中野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23050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一、填空题：</a:t>
            </a:r>
            <a:br>
              <a:rPr sz="2800"/>
            </a:b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Rt△ABC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中，∠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C=90°</a:t>
            </a:r>
            <a:br>
              <a:rPr sz="2800"/>
            </a:b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a=3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b=4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，则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c= </a:t>
            </a:r>
            <a:r>
              <a:rPr b="1" lang="zh-CN" sz="2800" spc="-1" strike="noStrike" u="sng">
                <a:solidFill>
                  <a:srgbClr val="ffffcc"/>
                </a:solidFill>
                <a:uFillTx/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.     </a:t>
            </a:r>
            <a:br>
              <a:rPr sz="2800"/>
            </a:b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a=6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c=10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，则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b=</a:t>
            </a:r>
            <a:r>
              <a:rPr b="1" lang="zh-CN" sz="2800" spc="-1" strike="noStrike" u="sng">
                <a:solidFill>
                  <a:srgbClr val="ffffcc"/>
                </a:solidFill>
                <a:uFillTx/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1" lang="zh-CN" sz="2800" spc="-1" strike="noStrike" u="sng">
                <a:solidFill>
                  <a:srgbClr val="ffffcc"/>
                </a:solidFill>
                <a:uFillTx/>
                <a:latin typeface="Arial"/>
              </a:rPr>
              <a:t> 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在△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，</a:t>
            </a:r>
            <a:br>
              <a:rPr sz="2800"/>
            </a:b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）若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AC=5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BC=12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AB=13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，则 △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是 </a:t>
            </a:r>
            <a:r>
              <a:rPr b="1" lang="zh-CN" sz="2800" spc="-1" strike="noStrike" u="sng">
                <a:solidFill>
                  <a:srgbClr val="ffffcc"/>
                </a:solidFill>
                <a:uFillTx/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三角形</a:t>
            </a:r>
            <a:br>
              <a:rPr sz="2800"/>
            </a:b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）若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AC=17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BC=8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AB=15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，则 △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是 </a:t>
            </a:r>
            <a:r>
              <a:rPr b="1" lang="zh-CN" sz="2800" spc="-1" strike="noStrike" u="sng">
                <a:solidFill>
                  <a:srgbClr val="ffffcc"/>
                </a:solidFill>
                <a:uFillTx/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二、填空题</a:t>
            </a:r>
            <a:br>
              <a:rPr sz="4000"/>
            </a:b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小明用小棍扎了一个长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80cm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，宽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60cm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的长方形框架，由于四边形容易变形，需要用一根小棍作斜拉杆将四边形定形，则斜拉杆最短需</a:t>
            </a:r>
            <a:r>
              <a:rPr b="1" lang="zh-CN" sz="4000" spc="-1" strike="noStrike" u="sng">
                <a:solidFill>
                  <a:srgbClr val="ffffcc"/>
                </a:solidFill>
                <a:uFillTx/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4920" y="0"/>
            <a:ext cx="4495680" cy="939600"/>
            <a:chOff x="34920" y="0"/>
            <a:chExt cx="4495680" cy="939600"/>
          </a:xfrm>
        </p:grpSpPr>
        <p:grpSp>
          <p:nvGrpSpPr>
            <p:cNvPr id="47" name=""/>
            <p:cNvGrpSpPr/>
            <p:nvPr/>
          </p:nvGrpSpPr>
          <p:grpSpPr>
            <a:xfrm>
              <a:off x="42480" y="4680"/>
              <a:ext cx="4488120" cy="934920"/>
              <a:chOff x="42480" y="4680"/>
              <a:chExt cx="4488120" cy="93492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42480" y="4680"/>
                <a:ext cx="4488120" cy="934920"/>
                <a:chOff x="42480" y="4680"/>
                <a:chExt cx="4488120" cy="9349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42480" y="4680"/>
                  <a:ext cx="4488120" cy="762120"/>
                </a:xfrm>
                <a:custGeom>
                  <a:avLst/>
                  <a:gdLst/>
                  <a:ahLst/>
                  <a:rect l="l" t="t" r="r" b="b"/>
                  <a:pathLst>
                    <a:path w="4480" h="1280">
                      <a:moveTo>
                        <a:pt x="405" y="426"/>
                      </a:moveTo>
                      <a:cubicBezTo>
                        <a:pt x="175" y="435"/>
                        <a:pt x="0" y="511"/>
                        <a:pt x="0" y="601"/>
                      </a:cubicBezTo>
                      <a:cubicBezTo>
                        <a:pt x="0" y="664"/>
                        <a:pt x="85" y="722"/>
                        <a:pt x="223" y="753"/>
                      </a:cubicBezTo>
                      <a:lnTo>
                        <a:pt x="221" y="751"/>
                      </a:lnTo>
                      <a:cubicBezTo>
                        <a:pt x="143" y="784"/>
                        <a:pt x="99" y="827"/>
                        <a:pt x="99" y="871"/>
                      </a:cubicBezTo>
                      <a:cubicBezTo>
                        <a:pt x="99" y="968"/>
                        <a:pt x="301" y="1046"/>
                        <a:pt x="551" y="1046"/>
                      </a:cubicBezTo>
                      <a:cubicBezTo>
                        <a:pt x="569" y="1046"/>
                        <a:pt x="586" y="1046"/>
                        <a:pt x="604" y="1045"/>
                      </a:cubicBezTo>
                      <a:lnTo>
                        <a:pt x="601" y="1046"/>
                      </a:lnTo>
                      <a:cubicBezTo>
                        <a:pt x="744" y="1143"/>
                        <a:pt x="1009" y="1203"/>
                        <a:pt x="1296" y="1203"/>
                      </a:cubicBezTo>
                      <a:cubicBezTo>
                        <a:pt x="1441" y="1203"/>
                        <a:pt x="1584" y="1188"/>
                        <a:pt x="1708" y="1159"/>
                      </a:cubicBezTo>
                      <a:lnTo>
                        <a:pt x="1707" y="1159"/>
                      </a:lnTo>
                      <a:cubicBezTo>
                        <a:pt x="1837" y="1235"/>
                        <a:pt x="2055" y="1280"/>
                        <a:pt x="2289" y="1280"/>
                      </a:cubicBezTo>
                      <a:cubicBezTo>
                        <a:pt x="2598" y="1280"/>
                        <a:pt x="2870" y="1201"/>
                        <a:pt x="2960" y="1086"/>
                      </a:cubicBezTo>
                      <a:lnTo>
                        <a:pt x="2960" y="1088"/>
                      </a:lnTo>
                      <a:cubicBezTo>
                        <a:pt x="3056" y="1111"/>
                        <a:pt x="3166" y="1123"/>
                        <a:pt x="3278" y="1123"/>
                      </a:cubicBezTo>
                      <a:cubicBezTo>
                        <a:pt x="3607" y="1123"/>
                        <a:pt x="3875" y="1020"/>
                        <a:pt x="3878" y="892"/>
                      </a:cubicBezTo>
                      <a:lnTo>
                        <a:pt x="3877" y="891"/>
                      </a:lnTo>
                      <a:cubicBezTo>
                        <a:pt x="4223" y="872"/>
                        <a:pt x="4480" y="757"/>
                        <a:pt x="4480" y="621"/>
                      </a:cubicBezTo>
                      <a:cubicBezTo>
                        <a:pt x="4480" y="561"/>
                        <a:pt x="4429" y="502"/>
                        <a:pt x="4334" y="455"/>
                      </a:cubicBezTo>
                      <a:lnTo>
                        <a:pt x="4333" y="454"/>
                      </a:lnTo>
                      <a:cubicBezTo>
                        <a:pt x="4362" y="428"/>
                        <a:pt x="4378" y="399"/>
                        <a:pt x="4378" y="370"/>
                      </a:cubicBezTo>
                      <a:cubicBezTo>
                        <a:pt x="4378" y="272"/>
                        <a:pt x="4211" y="187"/>
                        <a:pt x="3970" y="162"/>
                      </a:cubicBezTo>
                      <a:lnTo>
                        <a:pt x="3972" y="161"/>
                      </a:lnTo>
                      <a:cubicBezTo>
                        <a:pt x="3929" y="68"/>
                        <a:pt x="3720" y="0"/>
                        <a:pt x="3476" y="0"/>
                      </a:cubicBezTo>
                      <a:cubicBezTo>
                        <a:pt x="3328" y="0"/>
                        <a:pt x="3188" y="26"/>
                        <a:pt x="3092" y="70"/>
                      </a:cubicBezTo>
                      <a:lnTo>
                        <a:pt x="3093" y="70"/>
                      </a:lnTo>
                      <a:cubicBezTo>
                        <a:pt x="3007" y="26"/>
                        <a:pt x="2874" y="0"/>
                        <a:pt x="2733" y="0"/>
                      </a:cubicBezTo>
                      <a:cubicBezTo>
                        <a:pt x="2561" y="0"/>
                        <a:pt x="2404" y="38"/>
                        <a:pt x="2328" y="98"/>
                      </a:cubicBezTo>
                      <a:lnTo>
                        <a:pt x="2329" y="101"/>
                      </a:lnTo>
                      <a:cubicBezTo>
                        <a:pt x="2226" y="61"/>
                        <a:pt x="2087" y="39"/>
                        <a:pt x="1941" y="39"/>
                      </a:cubicBezTo>
                      <a:cubicBezTo>
                        <a:pt x="1737" y="39"/>
                        <a:pt x="1549" y="83"/>
                        <a:pt x="1453" y="153"/>
                      </a:cubicBezTo>
                      <a:lnTo>
                        <a:pt x="1451" y="155"/>
                      </a:lnTo>
                      <a:cubicBezTo>
                        <a:pt x="1344" y="130"/>
                        <a:pt x="1222" y="117"/>
                        <a:pt x="1097" y="117"/>
                      </a:cubicBezTo>
                      <a:cubicBezTo>
                        <a:pt x="710" y="117"/>
                        <a:pt x="397" y="239"/>
                        <a:pt x="397" y="390"/>
                      </a:cubicBezTo>
                      <a:cubicBezTo>
                        <a:pt x="397" y="402"/>
                        <a:pt x="399" y="414"/>
                        <a:pt x="403" y="426"/>
                      </a:cubicBezTo>
                      <a:lnTo>
                        <a:pt x="405" y="42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42480" y="4680"/>
                  <a:ext cx="4488120" cy="762120"/>
                </a:xfrm>
                <a:custGeom>
                  <a:avLst/>
                  <a:gdLst/>
                  <a:ahLst/>
                  <a:rect l="l" t="t" r="r" b="b"/>
                  <a:pathLst>
                    <a:path w="4480" h="1280">
                      <a:moveTo>
                        <a:pt x="405" y="426"/>
                      </a:moveTo>
                      <a:cubicBezTo>
                        <a:pt x="175" y="435"/>
                        <a:pt x="0" y="511"/>
                        <a:pt x="0" y="601"/>
                      </a:cubicBezTo>
                      <a:cubicBezTo>
                        <a:pt x="0" y="664"/>
                        <a:pt x="85" y="722"/>
                        <a:pt x="223" y="753"/>
                      </a:cubicBezTo>
                      <a:lnTo>
                        <a:pt x="221" y="751"/>
                      </a:lnTo>
                      <a:cubicBezTo>
                        <a:pt x="143" y="784"/>
                        <a:pt x="99" y="827"/>
                        <a:pt x="99" y="871"/>
                      </a:cubicBezTo>
                      <a:cubicBezTo>
                        <a:pt x="99" y="968"/>
                        <a:pt x="301" y="1046"/>
                        <a:pt x="551" y="1046"/>
                      </a:cubicBezTo>
                      <a:cubicBezTo>
                        <a:pt x="569" y="1046"/>
                        <a:pt x="586" y="1046"/>
                        <a:pt x="604" y="1045"/>
                      </a:cubicBezTo>
                      <a:lnTo>
                        <a:pt x="601" y="1046"/>
                      </a:lnTo>
                      <a:cubicBezTo>
                        <a:pt x="744" y="1143"/>
                        <a:pt x="1009" y="1203"/>
                        <a:pt x="1296" y="1203"/>
                      </a:cubicBezTo>
                      <a:cubicBezTo>
                        <a:pt x="1441" y="1203"/>
                        <a:pt x="1584" y="1188"/>
                        <a:pt x="1708" y="1159"/>
                      </a:cubicBezTo>
                      <a:lnTo>
                        <a:pt x="1707" y="1159"/>
                      </a:lnTo>
                      <a:cubicBezTo>
                        <a:pt x="1837" y="1235"/>
                        <a:pt x="2055" y="1280"/>
                        <a:pt x="2289" y="1280"/>
                      </a:cubicBezTo>
                      <a:cubicBezTo>
                        <a:pt x="2598" y="1280"/>
                        <a:pt x="2870" y="1201"/>
                        <a:pt x="2960" y="1086"/>
                      </a:cubicBezTo>
                      <a:lnTo>
                        <a:pt x="2960" y="1088"/>
                      </a:lnTo>
                      <a:cubicBezTo>
                        <a:pt x="3056" y="1111"/>
                        <a:pt x="3166" y="1123"/>
                        <a:pt x="3278" y="1123"/>
                      </a:cubicBezTo>
                      <a:cubicBezTo>
                        <a:pt x="3607" y="1123"/>
                        <a:pt x="3875" y="1020"/>
                        <a:pt x="3878" y="892"/>
                      </a:cubicBezTo>
                      <a:lnTo>
                        <a:pt x="3877" y="891"/>
                      </a:lnTo>
                      <a:cubicBezTo>
                        <a:pt x="4223" y="872"/>
                        <a:pt x="4480" y="757"/>
                        <a:pt x="4480" y="621"/>
                      </a:cubicBezTo>
                      <a:cubicBezTo>
                        <a:pt x="4480" y="561"/>
                        <a:pt x="4429" y="502"/>
                        <a:pt x="4334" y="455"/>
                      </a:cubicBezTo>
                      <a:lnTo>
                        <a:pt x="4333" y="454"/>
                      </a:lnTo>
                      <a:cubicBezTo>
                        <a:pt x="4362" y="428"/>
                        <a:pt x="4378" y="399"/>
                        <a:pt x="4378" y="370"/>
                      </a:cubicBezTo>
                      <a:cubicBezTo>
                        <a:pt x="4378" y="272"/>
                        <a:pt x="4211" y="187"/>
                        <a:pt x="3970" y="162"/>
                      </a:cubicBezTo>
                      <a:lnTo>
                        <a:pt x="3972" y="161"/>
                      </a:lnTo>
                      <a:cubicBezTo>
                        <a:pt x="3929" y="68"/>
                        <a:pt x="3720" y="0"/>
                        <a:pt x="3476" y="0"/>
                      </a:cubicBezTo>
                      <a:cubicBezTo>
                        <a:pt x="3328" y="0"/>
                        <a:pt x="3188" y="26"/>
                        <a:pt x="3092" y="70"/>
                      </a:cubicBezTo>
                      <a:lnTo>
                        <a:pt x="3093" y="70"/>
                      </a:lnTo>
                      <a:cubicBezTo>
                        <a:pt x="3007" y="26"/>
                        <a:pt x="2874" y="0"/>
                        <a:pt x="2733" y="0"/>
                      </a:cubicBezTo>
                      <a:cubicBezTo>
                        <a:pt x="2561" y="0"/>
                        <a:pt x="2404" y="38"/>
                        <a:pt x="2328" y="98"/>
                      </a:cubicBezTo>
                      <a:lnTo>
                        <a:pt x="2329" y="101"/>
                      </a:lnTo>
                      <a:cubicBezTo>
                        <a:pt x="2226" y="61"/>
                        <a:pt x="2087" y="39"/>
                        <a:pt x="1941" y="39"/>
                      </a:cubicBezTo>
                      <a:cubicBezTo>
                        <a:pt x="1737" y="39"/>
                        <a:pt x="1549" y="83"/>
                        <a:pt x="1453" y="153"/>
                      </a:cubicBezTo>
                      <a:lnTo>
                        <a:pt x="1451" y="155"/>
                      </a:lnTo>
                      <a:cubicBezTo>
                        <a:pt x="1344" y="130"/>
                        <a:pt x="1222" y="117"/>
                        <a:pt x="1097" y="117"/>
                      </a:cubicBezTo>
                      <a:cubicBezTo>
                        <a:pt x="710" y="117"/>
                        <a:pt x="397" y="239"/>
                        <a:pt x="397" y="390"/>
                      </a:cubicBezTo>
                      <a:cubicBezTo>
                        <a:pt x="397" y="402"/>
                        <a:pt x="399" y="414"/>
                        <a:pt x="403" y="426"/>
                      </a:cubicBezTo>
                      <a:lnTo>
                        <a:pt x="405" y="426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67120" y="452520"/>
                  <a:ext cx="261360" cy="14040"/>
                </a:xfrm>
                <a:custGeom>
                  <a:avLst/>
                  <a:gdLst/>
                  <a:ahLst/>
                  <a:rect l="l" t="t" r="r" b="b"/>
                  <a:pathLst>
                    <a:path w="98" h="9">
                      <a:moveTo>
                        <a:pt x="0" y="0"/>
                      </a:moveTo>
                      <a:cubicBezTo>
                        <a:pt x="25" y="6"/>
                        <a:pt x="55" y="9"/>
                        <a:pt x="85" y="9"/>
                      </a:cubicBezTo>
                      <a:cubicBezTo>
                        <a:pt x="90" y="9"/>
                        <a:pt x="94" y="9"/>
                        <a:pt x="98" y="9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646200" y="620640"/>
                  <a:ext cx="117360" cy="6480"/>
                </a:xfrm>
                <a:custGeom>
                  <a:avLst/>
                  <a:gdLst/>
                  <a:ahLst/>
                  <a:rect l="l" t="t" r="r" b="b"/>
                  <a:pathLst>
                    <a:path w="44" h="4">
                      <a:moveTo>
                        <a:pt x="0" y="4"/>
                      </a:moveTo>
                      <a:cubicBezTo>
                        <a:pt x="15" y="3"/>
                        <a:pt x="30" y="2"/>
                        <a:pt x="44" y="0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682640" y="663480"/>
                  <a:ext cx="6948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cubicBezTo>
                        <a:pt x="7" y="7"/>
                        <a:pt x="16" y="14"/>
                        <a:pt x="26" y="20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007440" y="617400"/>
                  <a:ext cx="26640" cy="3348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21"/>
                      </a:moveTo>
                      <a:cubicBezTo>
                        <a:pt x="5" y="14"/>
                        <a:pt x="9" y="7"/>
                        <a:pt x="10" y="0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589920" y="409680"/>
                  <a:ext cx="336600" cy="125280"/>
                </a:xfrm>
                <a:custGeom>
                  <a:avLst/>
                  <a:gdLst/>
                  <a:ahLst/>
                  <a:rect l="l" t="t" r="r" b="b"/>
                  <a:pathLst>
                    <a:path w="126" h="79">
                      <a:moveTo>
                        <a:pt x="126" y="79"/>
                      </a:moveTo>
                      <a:cubicBezTo>
                        <a:pt x="126" y="79"/>
                        <a:pt x="126" y="79"/>
                        <a:pt x="126" y="79"/>
                      </a:cubicBezTo>
                      <a:cubicBezTo>
                        <a:pt x="126" y="45"/>
                        <a:pt x="77" y="15"/>
                        <a:pt x="0" y="0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233600" y="274680"/>
                  <a:ext cx="149400" cy="47520"/>
                </a:xfrm>
                <a:custGeom>
                  <a:avLst/>
                  <a:gdLst/>
                  <a:ahLst/>
                  <a:rect l="l" t="t" r="r" b="b"/>
                  <a:pathLst>
                    <a:path w="56" h="30">
                      <a:moveTo>
                        <a:pt x="0" y="30"/>
                      </a:moveTo>
                      <a:cubicBezTo>
                        <a:pt x="24" y="22"/>
                        <a:pt x="43" y="12"/>
                        <a:pt x="56" y="0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019760" y="100080"/>
                  <a:ext cx="8280" cy="23760"/>
                </a:xfrm>
                <a:custGeom>
                  <a:avLst/>
                  <a:gdLst/>
                  <a:ahLst/>
                  <a:rect l="l" t="t" r="r" b="b"/>
                  <a:pathLst>
                    <a:path w="3" h="15">
                      <a:moveTo>
                        <a:pt x="3" y="15"/>
                      </a:moveTo>
                      <a:cubicBezTo>
                        <a:pt x="3" y="14"/>
                        <a:pt x="3" y="14"/>
                        <a:pt x="3" y="13"/>
                      </a:cubicBezTo>
                      <a:cubicBezTo>
                        <a:pt x="3" y="9"/>
                        <a:pt x="2" y="5"/>
                        <a:pt x="0" y="0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063960" y="46080"/>
                  <a:ext cx="74160" cy="28440"/>
                </a:xfrm>
                <a:custGeom>
                  <a:avLst/>
                  <a:gdLst/>
                  <a:ahLst/>
                  <a:rect l="l" t="t" r="r" b="b"/>
                  <a:pathLst>
                    <a:path w="28" h="18">
                      <a:moveTo>
                        <a:pt x="28" y="0"/>
                      </a:moveTo>
                      <a:cubicBezTo>
                        <a:pt x="17" y="5"/>
                        <a:pt x="7" y="11"/>
                        <a:pt x="0" y="18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37120" y="63360"/>
                  <a:ext cx="37440" cy="2376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14" y="0"/>
                      </a:moveTo>
                      <a:cubicBezTo>
                        <a:pt x="8" y="5"/>
                        <a:pt x="3" y="10"/>
                        <a:pt x="0" y="15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495440" y="96840"/>
                  <a:ext cx="136080" cy="23760"/>
                </a:xfrm>
                <a:custGeom>
                  <a:avLst/>
                  <a:gdLst/>
                  <a:ahLst/>
                  <a:rect l="l" t="t" r="r" b="b"/>
                  <a:pathLst>
                    <a:path w="51" h="15">
                      <a:moveTo>
                        <a:pt x="51" y="15"/>
                      </a:moveTo>
                      <a:cubicBezTo>
                        <a:pt x="35" y="9"/>
                        <a:pt x="18" y="4"/>
                        <a:pt x="0" y="0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45680" y="258840"/>
                  <a:ext cx="24120" cy="23760"/>
                </a:xfrm>
                <a:custGeom>
                  <a:avLst/>
                  <a:gdLst/>
                  <a:ahLst/>
                  <a:rect l="l" t="t" r="r" b="b"/>
                  <a:pathLst>
                    <a:path w="9" h="15">
                      <a:moveTo>
                        <a:pt x="0" y="0"/>
                      </a:moveTo>
                      <a:cubicBezTo>
                        <a:pt x="2" y="5"/>
                        <a:pt x="5" y="11"/>
                        <a:pt x="9" y="15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10120" y="703080"/>
                  <a:ext cx="748080" cy="127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10120" y="703080"/>
                  <a:ext cx="748080" cy="127080"/>
                </a:xfrm>
                <a:prstGeom prst="ellipse">
                  <a:avLst/>
                </a:prstGeom>
                <a:noFill/>
                <a:ln cap="rnd"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88360" y="819000"/>
                  <a:ext cx="499680" cy="842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88360" y="819000"/>
                  <a:ext cx="499680" cy="84240"/>
                </a:xfrm>
                <a:prstGeom prst="ellipse">
                  <a:avLst/>
                </a:prstGeom>
                <a:noFill/>
                <a:ln cap="rnd"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97280" y="898560"/>
                  <a:ext cx="251280" cy="41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97280" y="898560"/>
                  <a:ext cx="251280" cy="41040"/>
                </a:xfrm>
                <a:prstGeom prst="ellipse">
                  <a:avLst/>
                </a:prstGeom>
                <a:noFill/>
                <a:ln cap="rnd"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1431720" y="74520"/>
                <a:ext cx="1923480" cy="641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89760" y="162000"/>
                <a:ext cx="7185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y=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42480" y="4680"/>
                <a:ext cx="4488120" cy="934920"/>
                <a:chOff x="42480" y="4680"/>
                <a:chExt cx="4488120" cy="9349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2480" y="4680"/>
                  <a:ext cx="4488120" cy="762120"/>
                </a:xfrm>
                <a:custGeom>
                  <a:avLst/>
                  <a:gdLst/>
                  <a:ahLst/>
                  <a:rect l="l" t="t" r="r" b="b"/>
                  <a:pathLst>
                    <a:path w="4480" h="1280">
                      <a:moveTo>
                        <a:pt x="405" y="426"/>
                      </a:moveTo>
                      <a:cubicBezTo>
                        <a:pt x="175" y="435"/>
                        <a:pt x="0" y="511"/>
                        <a:pt x="0" y="601"/>
                      </a:cubicBezTo>
                      <a:cubicBezTo>
                        <a:pt x="0" y="664"/>
                        <a:pt x="85" y="722"/>
                        <a:pt x="223" y="753"/>
                      </a:cubicBezTo>
                      <a:lnTo>
                        <a:pt x="221" y="751"/>
                      </a:lnTo>
                      <a:cubicBezTo>
                        <a:pt x="143" y="784"/>
                        <a:pt x="99" y="827"/>
                        <a:pt x="99" y="871"/>
                      </a:cubicBezTo>
                      <a:cubicBezTo>
                        <a:pt x="99" y="968"/>
                        <a:pt x="301" y="1046"/>
                        <a:pt x="551" y="1046"/>
                      </a:cubicBezTo>
                      <a:cubicBezTo>
                        <a:pt x="569" y="1046"/>
                        <a:pt x="586" y="1046"/>
                        <a:pt x="604" y="1045"/>
                      </a:cubicBezTo>
                      <a:lnTo>
                        <a:pt x="601" y="1046"/>
                      </a:lnTo>
                      <a:cubicBezTo>
                        <a:pt x="744" y="1143"/>
                        <a:pt x="1009" y="1203"/>
                        <a:pt x="1296" y="1203"/>
                      </a:cubicBezTo>
                      <a:cubicBezTo>
                        <a:pt x="1441" y="1203"/>
                        <a:pt x="1584" y="1188"/>
                        <a:pt x="1708" y="1159"/>
                      </a:cubicBezTo>
                      <a:lnTo>
                        <a:pt x="1707" y="1159"/>
                      </a:lnTo>
                      <a:cubicBezTo>
                        <a:pt x="1837" y="1235"/>
                        <a:pt x="2055" y="1280"/>
                        <a:pt x="2289" y="1280"/>
                      </a:cubicBezTo>
                      <a:cubicBezTo>
                        <a:pt x="2598" y="1280"/>
                        <a:pt x="2870" y="1201"/>
                        <a:pt x="2960" y="1086"/>
                      </a:cubicBezTo>
                      <a:lnTo>
                        <a:pt x="2960" y="1088"/>
                      </a:lnTo>
                      <a:cubicBezTo>
                        <a:pt x="3056" y="1111"/>
                        <a:pt x="3166" y="1123"/>
                        <a:pt x="3278" y="1123"/>
                      </a:cubicBezTo>
                      <a:cubicBezTo>
                        <a:pt x="3607" y="1123"/>
                        <a:pt x="3875" y="1020"/>
                        <a:pt x="3878" y="892"/>
                      </a:cubicBezTo>
                      <a:lnTo>
                        <a:pt x="3877" y="891"/>
                      </a:lnTo>
                      <a:cubicBezTo>
                        <a:pt x="4223" y="872"/>
                        <a:pt x="4480" y="757"/>
                        <a:pt x="4480" y="621"/>
                      </a:cubicBezTo>
                      <a:cubicBezTo>
                        <a:pt x="4480" y="561"/>
                        <a:pt x="4429" y="502"/>
                        <a:pt x="4334" y="455"/>
                      </a:cubicBezTo>
                      <a:lnTo>
                        <a:pt x="4333" y="454"/>
                      </a:lnTo>
                      <a:cubicBezTo>
                        <a:pt x="4362" y="428"/>
                        <a:pt x="4378" y="399"/>
                        <a:pt x="4378" y="370"/>
                      </a:cubicBezTo>
                      <a:cubicBezTo>
                        <a:pt x="4378" y="272"/>
                        <a:pt x="4211" y="187"/>
                        <a:pt x="3970" y="162"/>
                      </a:cubicBezTo>
                      <a:lnTo>
                        <a:pt x="3972" y="161"/>
                      </a:lnTo>
                      <a:cubicBezTo>
                        <a:pt x="3929" y="68"/>
                        <a:pt x="3720" y="0"/>
                        <a:pt x="3476" y="0"/>
                      </a:cubicBezTo>
                      <a:cubicBezTo>
                        <a:pt x="3328" y="0"/>
                        <a:pt x="3188" y="26"/>
                        <a:pt x="3092" y="70"/>
                      </a:cubicBezTo>
                      <a:lnTo>
                        <a:pt x="3093" y="70"/>
                      </a:lnTo>
                      <a:cubicBezTo>
                        <a:pt x="3007" y="26"/>
                        <a:pt x="2874" y="0"/>
                        <a:pt x="2733" y="0"/>
                      </a:cubicBezTo>
                      <a:cubicBezTo>
                        <a:pt x="2561" y="0"/>
                        <a:pt x="2404" y="38"/>
                        <a:pt x="2328" y="98"/>
                      </a:cubicBezTo>
                      <a:lnTo>
                        <a:pt x="2329" y="101"/>
                      </a:lnTo>
                      <a:cubicBezTo>
                        <a:pt x="2226" y="61"/>
                        <a:pt x="2087" y="39"/>
                        <a:pt x="1941" y="39"/>
                      </a:cubicBezTo>
                      <a:cubicBezTo>
                        <a:pt x="1737" y="39"/>
                        <a:pt x="1549" y="83"/>
                        <a:pt x="1453" y="153"/>
                      </a:cubicBezTo>
                      <a:lnTo>
                        <a:pt x="1451" y="155"/>
                      </a:lnTo>
                      <a:cubicBezTo>
                        <a:pt x="1344" y="130"/>
                        <a:pt x="1222" y="117"/>
                        <a:pt x="1097" y="117"/>
                      </a:cubicBezTo>
                      <a:cubicBezTo>
                        <a:pt x="710" y="117"/>
                        <a:pt x="397" y="239"/>
                        <a:pt x="397" y="390"/>
                      </a:cubicBezTo>
                      <a:cubicBezTo>
                        <a:pt x="397" y="402"/>
                        <a:pt x="399" y="414"/>
                        <a:pt x="403" y="426"/>
                      </a:cubicBezTo>
                      <a:lnTo>
                        <a:pt x="405" y="42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2480" y="4680"/>
                  <a:ext cx="4488120" cy="762120"/>
                </a:xfrm>
                <a:custGeom>
                  <a:avLst/>
                  <a:gdLst/>
                  <a:ahLst/>
                  <a:rect l="l" t="t" r="r" b="b"/>
                  <a:pathLst>
                    <a:path w="4480" h="1280">
                      <a:moveTo>
                        <a:pt x="405" y="426"/>
                      </a:moveTo>
                      <a:cubicBezTo>
                        <a:pt x="175" y="435"/>
                        <a:pt x="0" y="511"/>
                        <a:pt x="0" y="601"/>
                      </a:cubicBezTo>
                      <a:cubicBezTo>
                        <a:pt x="0" y="664"/>
                        <a:pt x="85" y="722"/>
                        <a:pt x="223" y="753"/>
                      </a:cubicBezTo>
                      <a:lnTo>
                        <a:pt x="221" y="751"/>
                      </a:lnTo>
                      <a:cubicBezTo>
                        <a:pt x="143" y="784"/>
                        <a:pt x="99" y="827"/>
                        <a:pt x="99" y="871"/>
                      </a:cubicBezTo>
                      <a:cubicBezTo>
                        <a:pt x="99" y="968"/>
                        <a:pt x="301" y="1046"/>
                        <a:pt x="551" y="1046"/>
                      </a:cubicBezTo>
                      <a:cubicBezTo>
                        <a:pt x="569" y="1046"/>
                        <a:pt x="586" y="1046"/>
                        <a:pt x="604" y="1045"/>
                      </a:cubicBezTo>
                      <a:lnTo>
                        <a:pt x="601" y="1046"/>
                      </a:lnTo>
                      <a:cubicBezTo>
                        <a:pt x="744" y="1143"/>
                        <a:pt x="1009" y="1203"/>
                        <a:pt x="1296" y="1203"/>
                      </a:cubicBezTo>
                      <a:cubicBezTo>
                        <a:pt x="1441" y="1203"/>
                        <a:pt x="1584" y="1188"/>
                        <a:pt x="1708" y="1159"/>
                      </a:cubicBezTo>
                      <a:lnTo>
                        <a:pt x="1707" y="1159"/>
                      </a:lnTo>
                      <a:cubicBezTo>
                        <a:pt x="1837" y="1235"/>
                        <a:pt x="2055" y="1280"/>
                        <a:pt x="2289" y="1280"/>
                      </a:cubicBezTo>
                      <a:cubicBezTo>
                        <a:pt x="2598" y="1280"/>
                        <a:pt x="2870" y="1201"/>
                        <a:pt x="2960" y="1086"/>
                      </a:cubicBezTo>
                      <a:lnTo>
                        <a:pt x="2960" y="1088"/>
                      </a:lnTo>
                      <a:cubicBezTo>
                        <a:pt x="3056" y="1111"/>
                        <a:pt x="3166" y="1123"/>
                        <a:pt x="3278" y="1123"/>
                      </a:cubicBezTo>
                      <a:cubicBezTo>
                        <a:pt x="3607" y="1123"/>
                        <a:pt x="3875" y="1020"/>
                        <a:pt x="3878" y="892"/>
                      </a:cubicBezTo>
                      <a:lnTo>
                        <a:pt x="3877" y="891"/>
                      </a:lnTo>
                      <a:cubicBezTo>
                        <a:pt x="4223" y="872"/>
                        <a:pt x="4480" y="757"/>
                        <a:pt x="4480" y="621"/>
                      </a:cubicBezTo>
                      <a:cubicBezTo>
                        <a:pt x="4480" y="561"/>
                        <a:pt x="4429" y="502"/>
                        <a:pt x="4334" y="455"/>
                      </a:cubicBezTo>
                      <a:lnTo>
                        <a:pt x="4333" y="454"/>
                      </a:lnTo>
                      <a:cubicBezTo>
                        <a:pt x="4362" y="428"/>
                        <a:pt x="4378" y="399"/>
                        <a:pt x="4378" y="370"/>
                      </a:cubicBezTo>
                      <a:cubicBezTo>
                        <a:pt x="4378" y="272"/>
                        <a:pt x="4211" y="187"/>
                        <a:pt x="3970" y="162"/>
                      </a:cubicBezTo>
                      <a:lnTo>
                        <a:pt x="3972" y="161"/>
                      </a:lnTo>
                      <a:cubicBezTo>
                        <a:pt x="3929" y="68"/>
                        <a:pt x="3720" y="0"/>
                        <a:pt x="3476" y="0"/>
                      </a:cubicBezTo>
                      <a:cubicBezTo>
                        <a:pt x="3328" y="0"/>
                        <a:pt x="3188" y="26"/>
                        <a:pt x="3092" y="70"/>
                      </a:cubicBezTo>
                      <a:lnTo>
                        <a:pt x="3093" y="70"/>
                      </a:lnTo>
                      <a:cubicBezTo>
                        <a:pt x="3007" y="26"/>
                        <a:pt x="2874" y="0"/>
                        <a:pt x="2733" y="0"/>
                      </a:cubicBezTo>
                      <a:cubicBezTo>
                        <a:pt x="2561" y="0"/>
                        <a:pt x="2404" y="38"/>
                        <a:pt x="2328" y="98"/>
                      </a:cubicBezTo>
                      <a:lnTo>
                        <a:pt x="2329" y="101"/>
                      </a:lnTo>
                      <a:cubicBezTo>
                        <a:pt x="2226" y="61"/>
                        <a:pt x="2087" y="39"/>
                        <a:pt x="1941" y="39"/>
                      </a:cubicBezTo>
                      <a:cubicBezTo>
                        <a:pt x="1737" y="39"/>
                        <a:pt x="1549" y="83"/>
                        <a:pt x="1453" y="153"/>
                      </a:cubicBezTo>
                      <a:lnTo>
                        <a:pt x="1451" y="155"/>
                      </a:lnTo>
                      <a:cubicBezTo>
                        <a:pt x="1344" y="130"/>
                        <a:pt x="1222" y="117"/>
                        <a:pt x="1097" y="117"/>
                      </a:cubicBezTo>
                      <a:cubicBezTo>
                        <a:pt x="710" y="117"/>
                        <a:pt x="397" y="239"/>
                        <a:pt x="397" y="390"/>
                      </a:cubicBezTo>
                      <a:cubicBezTo>
                        <a:pt x="397" y="402"/>
                        <a:pt x="399" y="414"/>
                        <a:pt x="403" y="426"/>
                      </a:cubicBezTo>
                      <a:lnTo>
                        <a:pt x="405" y="426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67120" y="452520"/>
                  <a:ext cx="261360" cy="14040"/>
                </a:xfrm>
                <a:custGeom>
                  <a:avLst/>
                  <a:gdLst/>
                  <a:ahLst/>
                  <a:rect l="l" t="t" r="r" b="b"/>
                  <a:pathLst>
                    <a:path w="98" h="9">
                      <a:moveTo>
                        <a:pt x="0" y="0"/>
                      </a:moveTo>
                      <a:cubicBezTo>
                        <a:pt x="25" y="6"/>
                        <a:pt x="55" y="9"/>
                        <a:pt x="85" y="9"/>
                      </a:cubicBezTo>
                      <a:cubicBezTo>
                        <a:pt x="90" y="9"/>
                        <a:pt x="94" y="9"/>
                        <a:pt x="98" y="9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46200" y="620640"/>
                  <a:ext cx="117360" cy="6480"/>
                </a:xfrm>
                <a:custGeom>
                  <a:avLst/>
                  <a:gdLst/>
                  <a:ahLst/>
                  <a:rect l="l" t="t" r="r" b="b"/>
                  <a:pathLst>
                    <a:path w="44" h="4">
                      <a:moveTo>
                        <a:pt x="0" y="4"/>
                      </a:moveTo>
                      <a:cubicBezTo>
                        <a:pt x="15" y="3"/>
                        <a:pt x="30" y="2"/>
                        <a:pt x="44" y="0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82640" y="663480"/>
                  <a:ext cx="6948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cubicBezTo>
                        <a:pt x="7" y="7"/>
                        <a:pt x="16" y="14"/>
                        <a:pt x="26" y="20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007440" y="617400"/>
                  <a:ext cx="26640" cy="33480"/>
                </a:xfrm>
                <a:custGeom>
                  <a:avLst/>
                  <a:gdLst/>
                  <a:ahLst/>
                  <a:rect l="l" t="t" r="r" b="b"/>
                  <a:pathLst>
                    <a:path w="10" h="21">
                      <a:moveTo>
                        <a:pt x="0" y="21"/>
                      </a:moveTo>
                      <a:cubicBezTo>
                        <a:pt x="5" y="14"/>
                        <a:pt x="9" y="7"/>
                        <a:pt x="10" y="0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589920" y="409680"/>
                  <a:ext cx="336600" cy="125280"/>
                </a:xfrm>
                <a:custGeom>
                  <a:avLst/>
                  <a:gdLst/>
                  <a:ahLst/>
                  <a:rect l="l" t="t" r="r" b="b"/>
                  <a:pathLst>
                    <a:path w="126" h="79">
                      <a:moveTo>
                        <a:pt x="126" y="79"/>
                      </a:moveTo>
                      <a:cubicBezTo>
                        <a:pt x="126" y="79"/>
                        <a:pt x="126" y="79"/>
                        <a:pt x="126" y="79"/>
                      </a:cubicBezTo>
                      <a:cubicBezTo>
                        <a:pt x="126" y="45"/>
                        <a:pt x="77" y="15"/>
                        <a:pt x="0" y="0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33600" y="274680"/>
                  <a:ext cx="149400" cy="47520"/>
                </a:xfrm>
                <a:custGeom>
                  <a:avLst/>
                  <a:gdLst/>
                  <a:ahLst/>
                  <a:rect l="l" t="t" r="r" b="b"/>
                  <a:pathLst>
                    <a:path w="56" h="30">
                      <a:moveTo>
                        <a:pt x="0" y="30"/>
                      </a:moveTo>
                      <a:cubicBezTo>
                        <a:pt x="24" y="22"/>
                        <a:pt x="43" y="12"/>
                        <a:pt x="56" y="0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019760" y="100080"/>
                  <a:ext cx="8280" cy="23760"/>
                </a:xfrm>
                <a:custGeom>
                  <a:avLst/>
                  <a:gdLst/>
                  <a:ahLst/>
                  <a:rect l="l" t="t" r="r" b="b"/>
                  <a:pathLst>
                    <a:path w="3" h="15">
                      <a:moveTo>
                        <a:pt x="3" y="15"/>
                      </a:moveTo>
                      <a:cubicBezTo>
                        <a:pt x="3" y="14"/>
                        <a:pt x="3" y="14"/>
                        <a:pt x="3" y="13"/>
                      </a:cubicBezTo>
                      <a:cubicBezTo>
                        <a:pt x="3" y="9"/>
                        <a:pt x="2" y="5"/>
                        <a:pt x="0" y="0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063960" y="46080"/>
                  <a:ext cx="74160" cy="28440"/>
                </a:xfrm>
                <a:custGeom>
                  <a:avLst/>
                  <a:gdLst/>
                  <a:ahLst/>
                  <a:rect l="l" t="t" r="r" b="b"/>
                  <a:pathLst>
                    <a:path w="28" h="18">
                      <a:moveTo>
                        <a:pt x="28" y="0"/>
                      </a:moveTo>
                      <a:cubicBezTo>
                        <a:pt x="17" y="5"/>
                        <a:pt x="7" y="11"/>
                        <a:pt x="0" y="18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337120" y="63360"/>
                  <a:ext cx="37440" cy="2376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14" y="0"/>
                      </a:moveTo>
                      <a:cubicBezTo>
                        <a:pt x="8" y="5"/>
                        <a:pt x="3" y="10"/>
                        <a:pt x="0" y="15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495440" y="96840"/>
                  <a:ext cx="136080" cy="23760"/>
                </a:xfrm>
                <a:custGeom>
                  <a:avLst/>
                  <a:gdLst/>
                  <a:ahLst/>
                  <a:rect l="l" t="t" r="r" b="b"/>
                  <a:pathLst>
                    <a:path w="51" h="15">
                      <a:moveTo>
                        <a:pt x="51" y="15"/>
                      </a:moveTo>
                      <a:cubicBezTo>
                        <a:pt x="35" y="9"/>
                        <a:pt x="18" y="4"/>
                        <a:pt x="0" y="0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45680" y="258840"/>
                  <a:ext cx="24120" cy="23760"/>
                </a:xfrm>
                <a:custGeom>
                  <a:avLst/>
                  <a:gdLst/>
                  <a:ahLst/>
                  <a:rect l="l" t="t" r="r" b="b"/>
                  <a:pathLst>
                    <a:path w="9" h="15">
                      <a:moveTo>
                        <a:pt x="0" y="0"/>
                      </a:moveTo>
                      <a:cubicBezTo>
                        <a:pt x="2" y="5"/>
                        <a:pt x="5" y="11"/>
                        <a:pt x="9" y="15"/>
                      </a:cubicBezTo>
                    </a:path>
                  </a:pathLst>
                </a:custGeom>
                <a:noFill/>
                <a:ln cap="rnd" w="9360">
                  <a:solidFill>
                    <a:srgbClr val="5b524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10120" y="703080"/>
                  <a:ext cx="748080" cy="127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10120" y="703080"/>
                  <a:ext cx="748080" cy="127080"/>
                </a:xfrm>
                <a:prstGeom prst="ellipse">
                  <a:avLst/>
                </a:prstGeom>
                <a:noFill/>
                <a:ln cap="rnd"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8360" y="819000"/>
                  <a:ext cx="499680" cy="842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88360" y="819000"/>
                  <a:ext cx="499680" cy="84240"/>
                </a:xfrm>
                <a:prstGeom prst="ellipse">
                  <a:avLst/>
                </a:prstGeom>
                <a:noFill/>
                <a:ln cap="rnd"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97280" y="898560"/>
                  <a:ext cx="251280" cy="41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97280" y="898560"/>
                  <a:ext cx="251280" cy="41040"/>
                </a:xfrm>
                <a:prstGeom prst="ellipse">
                  <a:avLst/>
                </a:prstGeom>
                <a:noFill/>
                <a:ln cap="rnd"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1431720" y="74520"/>
                <a:ext cx="1923480" cy="641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589760" y="162000"/>
                <a:ext cx="21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34920" y="0"/>
              <a:ext cx="4329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0" y="1197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经典繁颜体"/>
                <a:ea typeface="经典繁颜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经典繁颜体"/>
                <a:ea typeface="经典繁颜体"/>
              </a:rPr>
              <a:t>、如图，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经典繁颜体"/>
              </a:rPr>
              <a:t>受台风麦莎影响，</a:t>
            </a:r>
            <a:r>
              <a:rPr b="1" lang="zh-CN" sz="3200" spc="-1" strike="noStrike">
                <a:solidFill>
                  <a:srgbClr val="ffff00"/>
                </a:solidFill>
                <a:latin typeface="经典繁颜体"/>
                <a:ea typeface="经典繁颜体"/>
              </a:rPr>
              <a:t>一棵树在离地面</a:t>
            </a:r>
            <a:r>
              <a:rPr b="1" lang="zh-CN" sz="3200" spc="-1" strike="noStrike">
                <a:solidFill>
                  <a:srgbClr val="ffff00"/>
                </a:solidFill>
                <a:latin typeface="经典繁颜体"/>
                <a:ea typeface="经典繁颜体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经典繁颜体"/>
                <a:ea typeface="经典繁颜体"/>
              </a:rPr>
              <a:t>米处断裂，树的顶部落在离树跟底部</a:t>
            </a:r>
            <a:r>
              <a:rPr b="1" lang="zh-CN" sz="3200" spc="-1" strike="noStrike">
                <a:solidFill>
                  <a:srgbClr val="ffff00"/>
                </a:solidFill>
                <a:latin typeface="经典繁颜体"/>
                <a:ea typeface="经典繁颜体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经典繁颜体"/>
                <a:ea typeface="经典繁颜体"/>
              </a:rPr>
              <a:t>米处，这棵树折断前有高为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经典繁颜体"/>
                <a:ea typeface="经典繁颜体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经典繁颜体"/>
                <a:ea typeface="经典繁颜体"/>
              </a:rPr>
              <a:t> 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三、应用知识回归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286000" y="2827440"/>
            <a:ext cx="5742000" cy="3483720"/>
            <a:chOff x="2286000" y="2827440"/>
            <a:chExt cx="5742000" cy="3483720"/>
          </a:xfrm>
        </p:grpSpPr>
        <p:grpSp>
          <p:nvGrpSpPr>
            <p:cNvPr id="96" name=""/>
            <p:cNvGrpSpPr/>
            <p:nvPr/>
          </p:nvGrpSpPr>
          <p:grpSpPr>
            <a:xfrm>
              <a:off x="2286000" y="2913120"/>
              <a:ext cx="5742000" cy="3397680"/>
              <a:chOff x="2286000" y="2913120"/>
              <a:chExt cx="5742000" cy="3397680"/>
            </a:xfrm>
          </p:grpSpPr>
          <p:sp>
            <p:nvSpPr>
              <p:cNvPr id="97" name=""/>
              <p:cNvSpPr/>
              <p:nvPr/>
            </p:nvSpPr>
            <p:spPr>
              <a:xfrm>
                <a:off x="3832200" y="5683320"/>
                <a:ext cx="7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60560" y="3090960"/>
                <a:ext cx="2016360" cy="25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544920" y="3019320"/>
                <a:ext cx="137880" cy="2678400"/>
              </a:xfrm>
              <a:custGeom>
                <a:avLst/>
                <a:gdLst/>
                <a:ahLst/>
                <a:rect l="l" t="t" r="r" b="b"/>
                <a:pathLst>
                  <a:path w="87" h="1687">
                    <a:moveTo>
                      <a:pt x="74" y="1687"/>
                    </a:moveTo>
                    <a:cubicBezTo>
                      <a:pt x="48" y="1604"/>
                      <a:pt x="87" y="1522"/>
                      <a:pt x="25" y="1456"/>
                    </a:cubicBezTo>
                    <a:cubicBezTo>
                      <a:pt x="1" y="1383"/>
                      <a:pt x="1" y="1310"/>
                      <a:pt x="25" y="1234"/>
                    </a:cubicBezTo>
                    <a:cubicBezTo>
                      <a:pt x="30" y="1096"/>
                      <a:pt x="44" y="956"/>
                      <a:pt x="0" y="823"/>
                    </a:cubicBezTo>
                    <a:cubicBezTo>
                      <a:pt x="10" y="743"/>
                      <a:pt x="18" y="664"/>
                      <a:pt x="25" y="584"/>
                    </a:cubicBezTo>
                    <a:cubicBezTo>
                      <a:pt x="28" y="433"/>
                      <a:pt x="25" y="282"/>
                      <a:pt x="33" y="132"/>
                    </a:cubicBezTo>
                    <a:cubicBezTo>
                      <a:pt x="39" y="7"/>
                      <a:pt x="52" y="192"/>
                      <a:pt x="74" y="99"/>
                    </a:cubicBezTo>
                    <a:cubicBezTo>
                      <a:pt x="82" y="67"/>
                      <a:pt x="74" y="33"/>
                      <a:pt x="74" y="0"/>
                    </a:cubicBezTo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1880" y="2913120"/>
                <a:ext cx="169920" cy="187200"/>
              </a:xfrm>
              <a:custGeom>
                <a:avLst/>
                <a:gdLst/>
                <a:ahLst/>
                <a:rect l="l" t="t" r="r" b="b"/>
                <a:pathLst>
                  <a:path w="107" h="118">
                    <a:moveTo>
                      <a:pt x="0" y="27"/>
                    </a:moveTo>
                    <a:cubicBezTo>
                      <a:pt x="29" y="0"/>
                      <a:pt x="40" y="10"/>
                      <a:pt x="66" y="35"/>
                    </a:cubicBezTo>
                    <a:cubicBezTo>
                      <a:pt x="82" y="68"/>
                      <a:pt x="107" y="82"/>
                      <a:pt x="107" y="11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2286000" y="3086280"/>
                <a:ext cx="5742000" cy="3224520"/>
                <a:chOff x="2286000" y="3086280"/>
                <a:chExt cx="5742000" cy="3224520"/>
              </a:xfrm>
            </p:grpSpPr>
            <p:sp>
              <p:nvSpPr>
                <p:cNvPr id="102" name=""/>
                <p:cNvSpPr/>
                <p:nvPr/>
              </p:nvSpPr>
              <p:spPr>
                <a:xfrm flipV="1">
                  <a:off x="2286000" y="5714640"/>
                  <a:ext cx="5742000" cy="324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430360" y="3854520"/>
                  <a:ext cx="801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ffff00"/>
                      </a:solidFill>
                      <a:latin typeface="Times New Roman"/>
                    </a:rPr>
                    <a:t>4</a:t>
                  </a:r>
                  <a:r>
                    <a:rPr b="1" lang="zh-CN" sz="3200" spc="-1" strike="noStrike">
                      <a:solidFill>
                        <a:srgbClr val="ffff00"/>
                      </a:solidFill>
                      <a:latin typeface="Times New Roman"/>
                    </a:rPr>
                    <a:t>米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587480" y="5729400"/>
                  <a:ext cx="725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ffff00"/>
                      </a:solidFill>
                      <a:latin typeface="Times New Roman"/>
                    </a:rPr>
                    <a:t>3</a:t>
                  </a:r>
                  <a:r>
                    <a:rPr b="1" lang="zh-CN" sz="3200" spc="-1" strike="noStrike">
                      <a:solidFill>
                        <a:srgbClr val="ffff00"/>
                      </a:solidFill>
                      <a:latin typeface="Times New Roman"/>
                    </a:rPr>
                    <a:t>米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760560" y="3090960"/>
                  <a:ext cx="0" cy="25923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684600" y="3125880"/>
                  <a:ext cx="226800" cy="2560680"/>
                </a:xfrm>
                <a:custGeom>
                  <a:avLst/>
                  <a:gdLst/>
                  <a:ahLst/>
                  <a:rect l="l" t="t" r="r" b="b"/>
                  <a:pathLst>
                    <a:path w="143" h="1613">
                      <a:moveTo>
                        <a:pt x="143" y="1613"/>
                      </a:moveTo>
                      <a:cubicBezTo>
                        <a:pt x="122" y="1592"/>
                        <a:pt x="111" y="1575"/>
                        <a:pt x="102" y="1547"/>
                      </a:cubicBezTo>
                      <a:cubicBezTo>
                        <a:pt x="108" y="1464"/>
                        <a:pt x="111" y="1314"/>
                        <a:pt x="134" y="1242"/>
                      </a:cubicBezTo>
                      <a:cubicBezTo>
                        <a:pt x="131" y="1028"/>
                        <a:pt x="131" y="815"/>
                        <a:pt x="126" y="601"/>
                      </a:cubicBezTo>
                      <a:cubicBezTo>
                        <a:pt x="125" y="544"/>
                        <a:pt x="128" y="479"/>
                        <a:pt x="85" y="436"/>
                      </a:cubicBezTo>
                      <a:cubicBezTo>
                        <a:pt x="58" y="354"/>
                        <a:pt x="0" y="198"/>
                        <a:pt x="102" y="165"/>
                      </a:cubicBezTo>
                      <a:cubicBezTo>
                        <a:pt x="88" y="114"/>
                        <a:pt x="69" y="52"/>
                        <a:pt x="69" y="0"/>
                      </a:cubicBezTo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832200" y="3295800"/>
                  <a:ext cx="731880" cy="1071360"/>
                </a:xfrm>
                <a:custGeom>
                  <a:avLst/>
                  <a:gdLst/>
                  <a:ahLst/>
                  <a:rect l="l" t="t" r="r" b="b"/>
                  <a:pathLst>
                    <a:path w="461" h="675">
                      <a:moveTo>
                        <a:pt x="0" y="0"/>
                      </a:moveTo>
                      <a:cubicBezTo>
                        <a:pt x="11" y="60"/>
                        <a:pt x="24" y="88"/>
                        <a:pt x="83" y="107"/>
                      </a:cubicBezTo>
                      <a:cubicBezTo>
                        <a:pt x="92" y="163"/>
                        <a:pt x="106" y="217"/>
                        <a:pt x="124" y="271"/>
                      </a:cubicBezTo>
                      <a:cubicBezTo>
                        <a:pt x="134" y="353"/>
                        <a:pt x="163" y="438"/>
                        <a:pt x="255" y="461"/>
                      </a:cubicBezTo>
                      <a:cubicBezTo>
                        <a:pt x="279" y="495"/>
                        <a:pt x="309" y="522"/>
                        <a:pt x="338" y="551"/>
                      </a:cubicBezTo>
                      <a:cubicBezTo>
                        <a:pt x="350" y="563"/>
                        <a:pt x="359" y="580"/>
                        <a:pt x="371" y="592"/>
                      </a:cubicBezTo>
                      <a:cubicBezTo>
                        <a:pt x="399" y="620"/>
                        <a:pt x="444" y="640"/>
                        <a:pt x="461" y="675"/>
                      </a:cubicBezTo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64080" y="4353120"/>
                  <a:ext cx="1136520" cy="1228680"/>
                </a:xfrm>
                <a:custGeom>
                  <a:avLst/>
                  <a:gdLst/>
                  <a:ahLst/>
                  <a:rect l="l" t="t" r="r" b="b"/>
                  <a:pathLst>
                    <a:path w="716" h="774">
                      <a:moveTo>
                        <a:pt x="0" y="0"/>
                      </a:moveTo>
                      <a:cubicBezTo>
                        <a:pt x="22" y="22"/>
                        <a:pt x="38" y="52"/>
                        <a:pt x="66" y="66"/>
                      </a:cubicBezTo>
                      <a:cubicBezTo>
                        <a:pt x="106" y="87"/>
                        <a:pt x="93" y="76"/>
                        <a:pt x="124" y="107"/>
                      </a:cubicBezTo>
                      <a:cubicBezTo>
                        <a:pt x="162" y="145"/>
                        <a:pt x="187" y="181"/>
                        <a:pt x="239" y="198"/>
                      </a:cubicBezTo>
                      <a:cubicBezTo>
                        <a:pt x="253" y="243"/>
                        <a:pt x="246" y="294"/>
                        <a:pt x="263" y="338"/>
                      </a:cubicBezTo>
                      <a:cubicBezTo>
                        <a:pt x="266" y="345"/>
                        <a:pt x="275" y="348"/>
                        <a:pt x="280" y="354"/>
                      </a:cubicBezTo>
                      <a:cubicBezTo>
                        <a:pt x="318" y="404"/>
                        <a:pt x="319" y="446"/>
                        <a:pt x="379" y="461"/>
                      </a:cubicBezTo>
                      <a:cubicBezTo>
                        <a:pt x="414" y="498"/>
                        <a:pt x="457" y="525"/>
                        <a:pt x="494" y="560"/>
                      </a:cubicBezTo>
                      <a:cubicBezTo>
                        <a:pt x="517" y="631"/>
                        <a:pt x="485" y="545"/>
                        <a:pt x="519" y="601"/>
                      </a:cubicBezTo>
                      <a:cubicBezTo>
                        <a:pt x="547" y="646"/>
                        <a:pt x="501" y="609"/>
                        <a:pt x="551" y="642"/>
                      </a:cubicBezTo>
                      <a:cubicBezTo>
                        <a:pt x="572" y="683"/>
                        <a:pt x="589" y="702"/>
                        <a:pt x="634" y="716"/>
                      </a:cubicBezTo>
                      <a:cubicBezTo>
                        <a:pt x="669" y="753"/>
                        <a:pt x="626" y="714"/>
                        <a:pt x="683" y="741"/>
                      </a:cubicBezTo>
                      <a:cubicBezTo>
                        <a:pt x="697" y="748"/>
                        <a:pt x="716" y="774"/>
                        <a:pt x="716" y="774"/>
                      </a:cubicBezTo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846600" y="3086280"/>
                  <a:ext cx="1749240" cy="2233440"/>
                </a:xfrm>
                <a:custGeom>
                  <a:avLst/>
                  <a:gdLst/>
                  <a:ahLst/>
                  <a:rect l="l" t="t" r="r" b="b"/>
                  <a:pathLst>
                    <a:path w="1102" h="1407">
                      <a:moveTo>
                        <a:pt x="0" y="0"/>
                      </a:moveTo>
                      <a:cubicBezTo>
                        <a:pt x="18" y="56"/>
                        <a:pt x="75" y="92"/>
                        <a:pt x="115" y="132"/>
                      </a:cubicBezTo>
                      <a:cubicBezTo>
                        <a:pt x="132" y="149"/>
                        <a:pt x="145" y="183"/>
                        <a:pt x="164" y="198"/>
                      </a:cubicBezTo>
                      <a:cubicBezTo>
                        <a:pt x="171" y="203"/>
                        <a:pt x="181" y="202"/>
                        <a:pt x="189" y="206"/>
                      </a:cubicBezTo>
                      <a:cubicBezTo>
                        <a:pt x="198" y="210"/>
                        <a:pt x="206" y="216"/>
                        <a:pt x="214" y="222"/>
                      </a:cubicBezTo>
                      <a:cubicBezTo>
                        <a:pt x="225" y="230"/>
                        <a:pt x="234" y="241"/>
                        <a:pt x="246" y="247"/>
                      </a:cubicBezTo>
                      <a:cubicBezTo>
                        <a:pt x="268" y="258"/>
                        <a:pt x="304" y="264"/>
                        <a:pt x="329" y="272"/>
                      </a:cubicBezTo>
                      <a:cubicBezTo>
                        <a:pt x="340" y="280"/>
                        <a:pt x="352" y="288"/>
                        <a:pt x="362" y="297"/>
                      </a:cubicBezTo>
                      <a:cubicBezTo>
                        <a:pt x="376" y="310"/>
                        <a:pt x="403" y="338"/>
                        <a:pt x="403" y="338"/>
                      </a:cubicBezTo>
                      <a:cubicBezTo>
                        <a:pt x="422" y="395"/>
                        <a:pt x="454" y="432"/>
                        <a:pt x="493" y="478"/>
                      </a:cubicBezTo>
                      <a:cubicBezTo>
                        <a:pt x="514" y="503"/>
                        <a:pt x="527" y="528"/>
                        <a:pt x="551" y="552"/>
                      </a:cubicBezTo>
                      <a:cubicBezTo>
                        <a:pt x="556" y="563"/>
                        <a:pt x="560" y="575"/>
                        <a:pt x="567" y="585"/>
                      </a:cubicBezTo>
                      <a:cubicBezTo>
                        <a:pt x="571" y="591"/>
                        <a:pt x="580" y="594"/>
                        <a:pt x="584" y="601"/>
                      </a:cubicBezTo>
                      <a:cubicBezTo>
                        <a:pt x="589" y="608"/>
                        <a:pt x="588" y="618"/>
                        <a:pt x="592" y="626"/>
                      </a:cubicBezTo>
                      <a:cubicBezTo>
                        <a:pt x="602" y="643"/>
                        <a:pt x="614" y="659"/>
                        <a:pt x="625" y="675"/>
                      </a:cubicBezTo>
                      <a:cubicBezTo>
                        <a:pt x="630" y="683"/>
                        <a:pt x="635" y="692"/>
                        <a:pt x="641" y="700"/>
                      </a:cubicBezTo>
                      <a:cubicBezTo>
                        <a:pt x="646" y="708"/>
                        <a:pt x="658" y="724"/>
                        <a:pt x="658" y="724"/>
                      </a:cubicBezTo>
                      <a:cubicBezTo>
                        <a:pt x="676" y="798"/>
                        <a:pt x="672" y="779"/>
                        <a:pt x="707" y="831"/>
                      </a:cubicBezTo>
                      <a:cubicBezTo>
                        <a:pt x="722" y="894"/>
                        <a:pt x="702" y="837"/>
                        <a:pt x="740" y="889"/>
                      </a:cubicBezTo>
                      <a:cubicBezTo>
                        <a:pt x="769" y="929"/>
                        <a:pt x="761" y="959"/>
                        <a:pt x="798" y="996"/>
                      </a:cubicBezTo>
                      <a:cubicBezTo>
                        <a:pt x="813" y="1026"/>
                        <a:pt x="825" y="1038"/>
                        <a:pt x="847" y="1062"/>
                      </a:cubicBezTo>
                      <a:cubicBezTo>
                        <a:pt x="864" y="1114"/>
                        <a:pt x="891" y="1163"/>
                        <a:pt x="938" y="1193"/>
                      </a:cubicBezTo>
                      <a:cubicBezTo>
                        <a:pt x="949" y="1210"/>
                        <a:pt x="960" y="1226"/>
                        <a:pt x="971" y="1243"/>
                      </a:cubicBezTo>
                      <a:cubicBezTo>
                        <a:pt x="976" y="1251"/>
                        <a:pt x="987" y="1267"/>
                        <a:pt x="987" y="1267"/>
                      </a:cubicBezTo>
                      <a:cubicBezTo>
                        <a:pt x="1005" y="1324"/>
                        <a:pt x="1060" y="1365"/>
                        <a:pt x="1102" y="1407"/>
                      </a:cubicBezTo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>
                <a:off x="5608440" y="5294520"/>
                <a:ext cx="209520" cy="365040"/>
              </a:xfrm>
              <a:custGeom>
                <a:avLst/>
                <a:gdLst/>
                <a:ahLst/>
                <a:rect l="l" t="t" r="r" b="b"/>
                <a:pathLst>
                  <a:path w="132" h="230">
                    <a:moveTo>
                      <a:pt x="0" y="0"/>
                    </a:moveTo>
                    <a:cubicBezTo>
                      <a:pt x="11" y="40"/>
                      <a:pt x="0" y="61"/>
                      <a:pt x="42" y="74"/>
                    </a:cubicBezTo>
                    <a:cubicBezTo>
                      <a:pt x="50" y="82"/>
                      <a:pt x="56" y="93"/>
                      <a:pt x="66" y="99"/>
                    </a:cubicBezTo>
                    <a:cubicBezTo>
                      <a:pt x="73" y="104"/>
                      <a:pt x="84" y="102"/>
                      <a:pt x="91" y="107"/>
                    </a:cubicBezTo>
                    <a:cubicBezTo>
                      <a:pt x="121" y="131"/>
                      <a:pt x="132" y="193"/>
                      <a:pt x="132" y="230"/>
                    </a:cubicBezTo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646440" y="2943360"/>
                <a:ext cx="68400" cy="7776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10" y="49"/>
                    </a:moveTo>
                    <a:cubicBezTo>
                      <a:pt x="7" y="41"/>
                      <a:pt x="0" y="33"/>
                      <a:pt x="2" y="24"/>
                    </a:cubicBezTo>
                    <a:cubicBezTo>
                      <a:pt x="5" y="9"/>
                      <a:pt x="43" y="0"/>
                      <a:pt x="43" y="0"/>
                    </a:cubicBezTo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3402000" y="58514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86000" y="28274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2720" y="57085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将一根长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24 cm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的筷子置于底面直径为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5cm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、高为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12cm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的圆形水杯中，如图，设筷子露在杯子外面的长为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hcm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，则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的取值</a:t>
            </a:r>
            <a:br>
              <a:rPr sz="3200"/>
            </a:b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范围是</a:t>
            </a:r>
            <a:r>
              <a:rPr b="1" lang="zh-CN" sz="3200" spc="-1" strike="noStrike" u="sng">
                <a:solidFill>
                  <a:srgbClr val="ffffcc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640" y="3429000"/>
            <a:ext cx="2087640" cy="2727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603600" y="3213000"/>
            <a:ext cx="1576440" cy="2880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084720" y="3384720"/>
            <a:ext cx="208764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小明把一根 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70cm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长的木棒放到一个长、宽、高分别为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50cm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40cm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30cm</a:t>
            </a: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的木箱中，他能放进去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2879640" cy="2416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35272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三、如图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一个梯子在机械槽内运动，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ACB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为直角，已知梯子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长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2.5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米，顶端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AC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上运动，量得梯了下端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距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点的距离为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1.5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米，当端点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向右移动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0.5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米时，求梯子顶端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</a:rPr>
              <a:t>下滑了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1280" y="2798640"/>
            <a:ext cx="331308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3236760" cy="3505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9280" y="54936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解：在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Rt△ABC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中，∠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C=9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052640"/>
            <a:ext cx="4174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AC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　　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AC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95600" y="183024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755640" y="3716280"/>
            <a:ext cx="48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Rt△DEC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中，∠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C=9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CE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DE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　　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5(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米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答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梯子下滑了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四、某校把一块形状为直角三角形的废地开辟为生物园，如图所示，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∠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ACB=90°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AC=80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米，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BC=60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米，若线段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是一条小渠，且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点在边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上，已知水渠的造价为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元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米，问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点在距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点多远处时，水渠的造价最低？最低造价是多少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0920" y="3606840"/>
            <a:ext cx="2857320" cy="2198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03640" y="3573360"/>
            <a:ext cx="2828880" cy="2232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156360" y="3571920"/>
            <a:ext cx="26384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1:00:38Z</dcterms:created>
  <dc:creator/>
  <dc:description/>
  <dc:language>en-US</dc:language>
  <cp:lastModifiedBy>zhangwei</cp:lastModifiedBy>
  <dcterms:modified xsi:type="dcterms:W3CDTF">2011-12-08T21:12:51Z</dcterms:modified>
  <cp:revision>47</cp:revision>
  <dc:subject/>
  <dc:title/>
</cp:coreProperties>
</file>